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DAB-2305-4302-9CE9-79202954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47C-66C5-4F67-8A0C-6833171E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70F-1AE6-4594-9554-DE0974A5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234-53EF-45EF-82E3-276103BB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57E-43AE-4350-9247-8137F8DA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16B-77EC-4399-9235-DE5D54E9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06A-C461-4822-88D3-1A7FC48D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C9B-5FDB-450A-86FC-3F3FF888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846-8606-4D68-8D49-10068381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0F3-D750-4D14-BAF1-30D3782A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A7D-C227-4460-B0EF-BA1372C9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7D4-DCD1-419C-9F25-DCB54572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6C6B-9DBB-41BC-9406-FC6B1461B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imSun"/>
              </a:rPr>
              <a:t>Proper Keyboarding Techniq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oper keyboarding technique include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Pos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Arm and Hand 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Keystroking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ne straight leaning slightly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ed in front of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fortable distance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t on floor, slightly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" descr="Jam010"/>
          <p:cNvPicPr/>
          <p:nvPr/>
        </p:nvPicPr>
        <p:blipFill>
          <a:blip r:embed="rId1"/>
          <a:stretch/>
        </p:blipFill>
        <p:spPr>
          <a:xfrm>
            <a:off x="762120" y="182880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 and Hand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 relaxed; elbows naturally close to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rms nearly parallel with slope of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Jam004"/>
          <p:cNvPicPr/>
          <p:nvPr/>
        </p:nvPicPr>
        <p:blipFill>
          <a:blip r:embed="rId1"/>
          <a:stretch/>
        </p:blipFill>
        <p:spPr>
          <a:xfrm>
            <a:off x="4572000" y="2133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sts and Fi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gers curved, tips of fingers resting lightly o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sts low, but palms of hands not resting on the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s and wrists "quiet," almost motio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9"/>
          <p:cNvGraphicFramePr/>
          <p:nvPr/>
        </p:nvGraphicFramePr>
        <p:xfrm>
          <a:off x="4952880" y="1828800"/>
          <a:ext cx="336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828800"/>
                    <a:ext cx="336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75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76"/>
            </a:gs>
            <a:gs pos="5000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 Keystroking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tips of your fingers to operate the assigned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circular, pecking motion (down and in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finger"/>
          <p:cNvPicPr/>
          <p:nvPr/>
        </p:nvPicPr>
        <p:blipFill>
          <a:blip r:embed="rId1"/>
          <a:stretch/>
        </p:blipFill>
        <p:spPr>
          <a:xfrm>
            <a:off x="685800" y="2470320"/>
            <a:ext cx="380988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DO THIS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type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make fewer mista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be able to type longer without getting as t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ill be less likely that you will have health problems with your hands and wr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75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ORTH THE EFFO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BD00005_"/>
          <p:cNvPicPr/>
          <p:nvPr/>
        </p:nvPicPr>
        <p:blipFill>
          <a:blip r:embed="rId1"/>
          <a:stretch/>
        </p:blipFill>
        <p:spPr>
          <a:xfrm>
            <a:off x="4038480" y="2819520"/>
            <a:ext cx="1603440" cy="161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D00005_"/>
          <p:cNvPicPr/>
          <p:nvPr/>
        </p:nvPicPr>
        <p:blipFill>
          <a:blip r:embed="rId2"/>
          <a:stretch/>
        </p:blipFill>
        <p:spPr>
          <a:xfrm>
            <a:off x="2743200" y="2209680"/>
            <a:ext cx="3675240" cy="3703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23:00:11Z</dcterms:created>
  <dc:creator>Inst </dc:creator>
  <dc:description/>
  <dc:language>en-US</dc:language>
  <cp:lastModifiedBy>mrank</cp:lastModifiedBy>
  <dcterms:modified xsi:type="dcterms:W3CDTF">2009-08-15T01:34:32Z</dcterms:modified>
  <cp:revision>11</cp:revision>
  <dc:subject/>
  <dc:title>Proper Keyboarding Technique</dc:title>
</cp:coreProperties>
</file>